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DF64-2EC2-460F-B823-7D0DDFFBA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08DD-2E7D-40F5-AB7C-BBF5A4DC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2C14-5B4E-4088-9CA1-1C56DCFE4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74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imes New Roman"/>
              </a:rPr>
              <a:t>DO Includes LA, UI, 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imes New Roman"/>
              </a:rPr>
              <a:t>LA-can find resources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classroom, LMC, textbook, home, other people, experts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 / reinforce retrieval skills: Dewey/fiction/ABC order/guide words/table of contents/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nd get th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2BCF-2EB8-4F7F-A919-372C6292C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or LMS models finding the facts that are needed and recording the “treasure” words on a graphic organiz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emonstrate thi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hildren become more independent, they will take out the information they need independently. (later gra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will use the information recorded on the graphic organizer to write a paragraph, create a poster, make some kind of report;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generated using computer software with the help of the computer resourc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993-BE62-4C18-A9C2-566B9C121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Buddies can be upper grade students or volunt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lder students read the selected  source and help the younger students record the key informa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ome second grade students are ready to extract facts independently using a graphic organizer specific to the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classroom teacher may team with the LMS and record the data on the blackboard to model the note taking process (More l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08C-445B-4AAD-8807-6A8DB88B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ynthesis will depend on the assig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It might be one product that all students complete--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tudents may be given a choice of products/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tudents Could work in pairs or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Times New Roman"/>
              </a:rPr>
              <a:t>Collaborate with the CRS for product to integrate technology into lesson/un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imple wor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Kidpix  and kid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how where information came from: simple bibliographic format/st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BC53-7817-4ACE-9F62-18A45B75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heck own work: look back at what the task/job w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*Partners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re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 evaluation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FEC-9B92-4AAE-9B48-DC1680AC1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REVIEW OF TH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blackboard, create a chart and have students create questions related to the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he task to the final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students identify resource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eacher/classroom teacher will identify the resource they wish to t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S/teacher create rubric for evaluation and explain it to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complete a survey related to their products and th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Read/listen, students raise hands when they hear the answer to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Record facts that answer th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Final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00cc"/>
                </a:solidFill>
                <a:latin typeface="Times New Roman"/>
              </a:rPr>
              <a:t>Use a rubric or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32B5-D708-40F3-9DD2-2D905FEF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borative effort between the classroom teacher and LMS stu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850B-1F75-49FD-85AD-A3C1A1C1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centers were placed in the media center one week before the unit actually beg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assroom teacher sent the students down to the media center in smal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d their choice of many different activities.  The picture shows a craft center where the students came in to build a canoe.  First, they had to plan what they were supposed to do, then actually make the canoe, finally review their work.  Purpose is to introduce the students to the Super 3 in a casual setting and have them get excited about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961F-D926-4C85-B9BA-ED343700D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everyone to join in this so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FE87-A0C7-4CB7-BEC0-E545B0D4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se in pairs after teacher and LMS modeled completing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A2D-EF32-4A06-A752-AA6B8918A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 resources they could use to answer their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index and table of cont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and LMS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6E33-063E-4C8C-B22F-97FEAA94C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will use a data collection chart which can develop into 2 column note taking in higher 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47C5-42F0-40E5-B03F-0B7B09F63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graphic organizers- students used the learn section of their K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into 2 column note t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can work in pairs- one student reads the passage one sentence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udent listens for treas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34EA-F320-4845-A1F4-112C5B643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Use stickie notes to limit ideas to 3-4 wo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Use a graphic organizer to meet the assign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Research bud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LMS and classroom teacher model the note taking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Provide students with lots of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4BA3-A747-430B-87C3-5E1E5064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Keep the task simple and age appropriate – “doab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LMS and teacher will model how it is taught and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Use the Big6/Super3 vocabulary: task/location and access/using information/synthesis/evaluation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In K-2, the focus in on steps 1 and 6 (Plan/Re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The process can be applied in all subject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The process is a framework for collaboration between the resource teachers and the classroom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BB03-23A8-49AE-83F6-86D1365BF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the Super3, we use colors as clues to each of the 3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, we use red to remind the students to stop and think about the task, job or assig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is green because students begin their work following their plan and work to complet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is blue. It indicates success for students who look at their completed work and match it to the task/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verything done? Complete? Neat? Is my name in appropriate location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need to make a habit of checking over work before turning it in and matching the end product with the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rics should be made for each assignment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27FF-431E-4958-9357-83FDBA723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per3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Pl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porat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and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s will need guidance and instruction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be fun: Try some Kagan strategies such as “think, pair, share”. Koosh ball toss will keep students on their t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 can develop questions and begin to identify resources which will help with the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ateg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HL chart --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elp students relate the question to what is already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 or categorize ideas or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words or synonyms to look for or liste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ategies to use for PLAN-- 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 what resources could be used for the task –accept all possi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possibl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e teacher/LMS may define the task simply for K and 1</a:t>
            </a:r>
            <a:r>
              <a:rPr b="0" lang="en-US" sz="1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ey may also select the resource and use the process to teach specific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5475-3D92-44D9-8A55-EC6D7DDB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er students may not understand what a question is as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anation or review of these words may be help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DD5-1C1E-44A1-BE1C-ADDA5F17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B23-7EC0-4ED1-8B29-4AAB9370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282-72D8-4ED2-9029-B4E3C6B4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AC4-12FF-4480-B436-64B613EF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233F-83ED-4764-A9DA-CFA49806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E056-6C29-4919-BFDD-0824CC05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1CDB-17D5-4CEA-8561-5DD183F8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FBF2-B024-4ABB-8978-392FD128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630D-ED09-4114-BABC-57F693A6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916E-EF65-4203-B443-263E5BAC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66A4-BFA7-4096-A046-27B05DA5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D47-5EA3-4EA1-B876-DC90C191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3AF9-B25B-4C64-B09E-6E6D313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901A-909F-4E54-9870-0C0313A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5C50-C187-40A9-A8EE-788644D8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3C50-B88A-47A5-8FF9-04545212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311-34BC-4483-B959-D231A2BF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B517-2C94-4442-AAE0-3A37B444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C4ED-98B3-402A-8889-4B4A9D46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3E4E-51E1-4E23-9204-65E3A5C0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DC02-7B90-4C07-8F5A-27D23014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137E-67AE-4A84-923D-4A000660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571-EA26-4F0F-B83F-BFC6FD8C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6A59-FBB3-4E7C-8AE0-291CCF35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0ABA-C589-4912-887D-527203D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4AF0-1871-44F3-9881-07F7548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FF6E-F447-43AA-8EAA-E273A1F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3E2A-1CBB-4318-A85E-77BCB69D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D198-FC14-4A36-A7C1-576E9732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C469-5AE2-4233-95AA-4AAF5688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247-3C10-45AC-8C7C-B01A3370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663-C421-4DC8-AA9B-23DEA6C0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3F4-2975-42A0-A9DB-7ECB26DD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2DA-5EBE-4068-B867-AE33E75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75B-AE53-4293-A45C-5167FC25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A2E-2B6C-4F65-8928-277DA80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4268-000C-48EF-9B4F-58900C3FFA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EB22-A50A-4C96-A491-C287D14E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0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056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2057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058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059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2060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206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206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06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06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06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2066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206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6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06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070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071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072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73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074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75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076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077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6691-A059-4148-84E4-83CCFD3E6B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koch@vbschools.com" TargetMode="External"/><Relationship Id="rId2" Type="http://schemas.openxmlformats.org/officeDocument/2006/relationships/hyperlink" Target="mailto:ejdlieser@att.ne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Super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sented 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Jean Koch, L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mmy Lieser, ODU graduate stu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V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vember 19-2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DO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Where will I find what I need? (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6" descr="bd04907_"/>
          <p:cNvPicPr/>
          <p:nvPr/>
        </p:nvPicPr>
        <p:blipFill>
          <a:blip r:embed="rId1"/>
          <a:stretch/>
        </p:blipFill>
        <p:spPr>
          <a:xfrm>
            <a:off x="3809880" y="1523880"/>
            <a:ext cx="175284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DO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What information Can I Use?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UI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How can I put my information together?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Research Buddie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Classroom Teacher and L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Do</a:t>
            </a:r>
            <a:br>
              <a:rPr sz="4400"/>
            </a:b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hare what has been learned with class or other classroo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ollaborate with the CRS for product to integrate technology into lesson/un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REVIEW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ow Will I Know If I Did My Jo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6" descr="so02015_"/>
          <p:cNvPicPr/>
          <p:nvPr/>
        </p:nvPicPr>
        <p:blipFill>
          <a:blip r:embed="rId1"/>
          <a:stretch/>
        </p:blipFill>
        <p:spPr>
          <a:xfrm>
            <a:off x="4038480" y="1219320"/>
            <a:ext cx="114300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984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152280"/>
          <a:ext cx="8610480" cy="708192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0800"/>
                <a:gridCol w="1722600"/>
                <a:gridCol w="17222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Super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You Got It 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Almost There</a:t>
                      </a: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Getting Close 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ke Another Look 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as able to restate the tas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Was able to state task with help from teac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Was able to state task with lots of he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restate tas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located, read &amp; took notes on 2 book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reated &amp; presented repor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Could determine 2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Could locate 1 boo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Could take notes with some he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Needed help with proje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Could determine 1 source and locate one book with help from the teac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Needed help reading and taking notes and cit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Created report with help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determine sourc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locate sources or  take no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complete assignment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Filled out evaluation form by sel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Filled out the evaluation form with he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Filled out evaluation form with lots of he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complete evaluation fo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Review Super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600200"/>
          <a:ext cx="7772400" cy="44766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2057400"/>
                <a:gridCol w="1828800"/>
              </a:tblGrid>
              <a:tr h="43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at are my research question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at resources do I ne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cate inform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Begin to wor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Complete assign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urvey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SUPER3: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Building Native American Houses Using the Super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grade gifted cluster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aborative eff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ed Social Studies SOL with the Super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-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y centers in LM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4" descr="Craftposter"/>
          <p:cNvPicPr/>
          <p:nvPr/>
        </p:nvPicPr>
        <p:blipFill>
          <a:blip r:embed="rId1"/>
          <a:stretch/>
        </p:blipFill>
        <p:spPr>
          <a:xfrm>
            <a:off x="1905120" y="18288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To the tune of “Bingo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Here is a process I can 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so02015_"/>
          <p:cNvPicPr/>
          <p:nvPr/>
        </p:nvPicPr>
        <p:blipFill>
          <a:blip r:embed="rId1"/>
          <a:stretch/>
        </p:blipFill>
        <p:spPr>
          <a:xfrm>
            <a:off x="7391520" y="49528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bd04907_"/>
          <p:cNvPicPr/>
          <p:nvPr/>
        </p:nvPicPr>
        <p:blipFill>
          <a:blip r:embed="rId2"/>
          <a:stretch/>
        </p:blipFill>
        <p:spPr>
          <a:xfrm>
            <a:off x="6172200" y="37339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BD00028_"/>
          <p:cNvPicPr/>
          <p:nvPr/>
        </p:nvPicPr>
        <p:blipFill>
          <a:blip r:embed="rId3"/>
          <a:stretch/>
        </p:blipFill>
        <p:spPr>
          <a:xfrm>
            <a:off x="4876920" y="3048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3cd4"/>
                </a:solidFill>
                <a:latin typeface="Comic Sans MS"/>
              </a:rPr>
              <a:t>The Unit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the homes of the Powhatan, the Sioux, or the Puebl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model of the home based on their resear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urnal throughout the proc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Pla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480" y="1371600"/>
          <a:ext cx="7696440" cy="490860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16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o I know about my topic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o I want to know about my topic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id I learn about my topic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ved in the Eastern Wood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kind of house they lived 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nature did they use mos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43"/>
          <p:cNvSpPr/>
          <p:nvPr/>
        </p:nvSpPr>
        <p:spPr>
          <a:xfrm flipV="1" rot="10818600">
            <a:off x="5943240" y="617148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a, second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3520" y="1295280"/>
          <a:ext cx="7696080" cy="522792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ent Com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MS 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-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am I supposed to 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ld Native Amarican homes and study about the Powhtan Indian tr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o to make to what I learn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will make a wigwag home becouse that’s what I’m studying abou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uper planning, Emma! You are now ready to begin your research on the Powhatan hom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1295280"/>
          <a:ext cx="7696080" cy="52516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ent Com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MS 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-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can I use to find what I need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can use a book about the Powhatan Indian tribe and learn more about their life.You can also use a computer to find some reserch.If you use a book you need to look at the tabel of contenence.We looked at the kinds of homes the Powhatan Indians live 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xcellent job, Emma!!!! You not only used great research skills, but you also communicated what you learned in a very clear way!!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sh and Treasure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352320" y="30481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Take Notes Without Copying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U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4" descr="bd05735_"/>
          <p:cNvPicPr/>
          <p:nvPr/>
        </p:nvPicPr>
        <p:blipFill>
          <a:blip r:embed="rId1"/>
          <a:stretch/>
        </p:blipFill>
        <p:spPr>
          <a:xfrm>
            <a:off x="762120" y="3505320"/>
            <a:ext cx="2474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sh and Treasure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74840" y="1828440"/>
            <a:ext cx="520704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search, words are like the X on the pirate’s treasure map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only want those we need (treasu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ignore the other words (tras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4" descr="bd05735_"/>
          <p:cNvPicPr/>
          <p:nvPr/>
        </p:nvPicPr>
        <p:blipFill>
          <a:blip r:embed="rId1"/>
          <a:stretch/>
        </p:blipFill>
        <p:spPr>
          <a:xfrm>
            <a:off x="380880" y="1219320"/>
            <a:ext cx="2475000" cy="4419360"/>
          </a:xfrm>
          <a:prstGeom prst="rect">
            <a:avLst/>
          </a:prstGeom>
          <a:ln w="0">
            <a:noFill/>
          </a:ln>
        </p:spPr>
      </p:pic>
      <p:sp>
        <p:nvSpPr>
          <p:cNvPr id="264" name="WordArt 5"/>
          <p:cNvSpPr txBox="1"/>
          <p:nvPr/>
        </p:nvSpPr>
        <p:spPr>
          <a:xfrm>
            <a:off x="1523880" y="4495680"/>
            <a:ext cx="4572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easure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00040" y="312372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s in a passage of text that answer the question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Pl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4" descr="bd05735_"/>
          <p:cNvPicPr/>
          <p:nvPr/>
        </p:nvPicPr>
        <p:blipFill>
          <a:blip r:embed="rId1"/>
          <a:stretch/>
        </p:blipFill>
        <p:spPr>
          <a:xfrm>
            <a:off x="762120" y="3505320"/>
            <a:ext cx="2474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sh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123720" y="243792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of the other words in the text that might be good words, but they DO NOT answer my ques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4" descr="bd05735_"/>
          <p:cNvPicPr/>
          <p:nvPr/>
        </p:nvPicPr>
        <p:blipFill>
          <a:blip r:embed="rId1"/>
          <a:stretch/>
        </p:blipFill>
        <p:spPr>
          <a:xfrm>
            <a:off x="762120" y="3505320"/>
            <a:ext cx="2474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s for Note ta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3" descr="bd05735_"/>
          <p:cNvPicPr/>
          <p:nvPr/>
        </p:nvPicPr>
        <p:blipFill>
          <a:blip r:embed="rId1"/>
          <a:stretch/>
        </p:blipFill>
        <p:spPr>
          <a:xfrm>
            <a:off x="152280" y="3809880"/>
            <a:ext cx="1471680" cy="16765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and become familiar with your research questions. Underline key wor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the article or source material one sentence at a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p at the end of each sentence and decide if there are any treasure wor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treasure words in the appropriate place on your data collection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owhatan people lived in comfortable homes. Traditional Powhatan homes were rectangle-shaped with rounded roof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er Powhatan women were in charge of building homes. But everyone helped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609480" y="3200400"/>
            <a:ext cx="3962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5943600" y="32004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373392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1760" y="914040"/>
            <a:ext cx="6933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First I plan what I will do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d look for what I need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28" descr="so02015_"/>
          <p:cNvPicPr/>
          <p:nvPr/>
        </p:nvPicPr>
        <p:blipFill>
          <a:blip r:embed="rId1"/>
          <a:stretch/>
        </p:blipFill>
        <p:spPr>
          <a:xfrm>
            <a:off x="5943600" y="4876920"/>
            <a:ext cx="1143000" cy="95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29" descr="bd04907_"/>
          <p:cNvPicPr/>
          <p:nvPr/>
        </p:nvPicPr>
        <p:blipFill>
          <a:blip r:embed="rId2"/>
          <a:stretch/>
        </p:blipFill>
        <p:spPr>
          <a:xfrm>
            <a:off x="5486400" y="3276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30" descr="BD00028_"/>
          <p:cNvPicPr/>
          <p:nvPr/>
        </p:nvPicPr>
        <p:blipFill>
          <a:blip r:embed="rId3"/>
          <a:stretch/>
        </p:blipFill>
        <p:spPr>
          <a:xfrm>
            <a:off x="4952880" y="2362320"/>
            <a:ext cx="86220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54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bent young trees to form frames of their houses. The Powhatan covered the frames with layers of grass and bark. They made the roofs with sheets of bark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vert, Kim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e Powhatan People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99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1027"/>
          <p:cNvSpPr/>
          <p:nvPr/>
        </p:nvSpPr>
        <p:spPr>
          <a:xfrm>
            <a:off x="2057400" y="1066680"/>
            <a:ext cx="3962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28"/>
          <p:cNvSpPr/>
          <p:nvPr/>
        </p:nvSpPr>
        <p:spPr>
          <a:xfrm>
            <a:off x="838080" y="175248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029"/>
          <p:cNvSpPr/>
          <p:nvPr/>
        </p:nvSpPr>
        <p:spPr>
          <a:xfrm>
            <a:off x="762120" y="29718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30"/>
          <p:cNvSpPr/>
          <p:nvPr/>
        </p:nvSpPr>
        <p:spPr>
          <a:xfrm>
            <a:off x="838080" y="3581280"/>
            <a:ext cx="5715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31"/>
          <p:cNvSpPr/>
          <p:nvPr/>
        </p:nvSpPr>
        <p:spPr>
          <a:xfrm>
            <a:off x="4495680" y="419112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32"/>
          <p:cNvSpPr/>
          <p:nvPr/>
        </p:nvSpPr>
        <p:spPr>
          <a:xfrm>
            <a:off x="914400" y="480060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Review for Trash and Treas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Picture 3" descr="bd05735_"/>
          <p:cNvPicPr/>
          <p:nvPr/>
        </p:nvPicPr>
        <p:blipFill>
          <a:blip r:embed="rId1"/>
          <a:stretch/>
        </p:blipFill>
        <p:spPr>
          <a:xfrm>
            <a:off x="304920" y="40384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What are “treasure” wor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2057400" y="4800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 read each sentence and stop and decide if I found treasure words.  I write the treasure words in the correct place on my data collec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66360" y="268596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What are “trash”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1523520" y="342900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ords I DO NOT need for my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1292760" y="205740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ords I need for my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748880" y="411480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ow do I take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out your criteria sheet.  Review the project goals.  Did you meet all of the goal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 green sticker next to the goals you m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 yellow sticker next to the goals you are not sure if you me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 red sticker next to the goals you did not mee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3276720" y="2971800"/>
            <a:ext cx="609480" cy="5335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6248520" y="3962520"/>
            <a:ext cx="60948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3962520" y="4952880"/>
            <a:ext cx="6094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k with your partner about how to improve any goals where you have a yellow        or a red       stick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your improv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ish your last Alpha-Smart response.  Go to “File 4” and answ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he ques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Review continu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2362320" y="2133720"/>
            <a:ext cx="60948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5"/>
          <p:cNvSpPr/>
          <p:nvPr/>
        </p:nvSpPr>
        <p:spPr>
          <a:xfrm>
            <a:off x="4876920" y="2133720"/>
            <a:ext cx="609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33520" y="1295280"/>
          <a:ext cx="7696080" cy="5651640"/>
        </p:xfrm>
        <a:graphic>
          <a:graphicData uri="http://schemas.openxmlformats.org/drawingml/2006/table">
            <a:tbl>
              <a:tblPr/>
              <a:tblGrid>
                <a:gridCol w="1676160"/>
                <a:gridCol w="889200"/>
                <a:gridCol w="2921040"/>
                <a:gridCol w="2209680"/>
              </a:tblGrid>
              <a:tr h="99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ent Com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4-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d I do what I was supposed to 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!! I built an Indian house,reserched,discuverd how their houses were built,discoverd what materials the Indians use to build their houses, and I wrote why I chose to build my shelter and why I built it that w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 I feel ok about my work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!!!! I think I did a great job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ou met all of the goals of the project.  Reviewing is a very important part of all projects.  You did do a great job, Emma!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2286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How Long Is A Crocodi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9480" y="914400"/>
          <a:ext cx="7772400" cy="4992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49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se our b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for 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o to the z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k an exp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neak up on one and measure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in book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ocod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pt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imal boo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cyclopedi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306360"/>
            <a:ext cx="6870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How Long Is A Crocodi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066680"/>
          <a:ext cx="7772400" cy="4992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se our b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for 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o to the z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k an exp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neak up on one and measure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in book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ocod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pt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imal boo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cyclopedi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ad about crocodiles in </a:t>
                      </a:r>
                      <a:r>
                        <a:rPr b="1" lang="en-US" sz="2800" spc="-1" strike="noStrike" u="sng">
                          <a:solidFill>
                            <a:srgbClr val="008000"/>
                          </a:solidFill>
                          <a:uFillTx/>
                          <a:latin typeface="Comic Sans MS"/>
                        </a:rPr>
                        <a:t>World Book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, 199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Vol.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p. 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T/T 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How Long Is A Crocodi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1219320"/>
          <a:ext cx="7772400" cy="49924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49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se our b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for 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o to the z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k an exp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neak up on one and measure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in book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ocod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pt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imal boo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cyclopedi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ad about crocodiles in World Book, 19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Vol.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p. 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T/T 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abies = 9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erican = 12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ile = 8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xtension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Famous People: K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914400"/>
          <a:ext cx="7772400" cy="5273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3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ith children, develop essential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dentify and locate resou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how its location and contents/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ad from resource: Young___by Adl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tudents identify answers to ques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cord treasure wo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or each question under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, determine if it was answe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ut a check or star beside the successful answ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Another Song for Super3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Plan Do Review: to the tune of “Farmer in the Dell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view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When you have a question u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n,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o,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view !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Next I use what I have foun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d show what I have learned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so02015_"/>
          <p:cNvPicPr/>
          <p:nvPr/>
        </p:nvPicPr>
        <p:blipFill>
          <a:blip r:embed="rId1"/>
          <a:stretch/>
        </p:blipFill>
        <p:spPr>
          <a:xfrm>
            <a:off x="6324480" y="5486400"/>
            <a:ext cx="1143000" cy="95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bd04907_"/>
          <p:cNvPicPr/>
          <p:nvPr/>
        </p:nvPicPr>
        <p:blipFill>
          <a:blip r:embed="rId2"/>
          <a:stretch/>
        </p:blipFill>
        <p:spPr>
          <a:xfrm>
            <a:off x="4495680" y="476424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D00028_"/>
          <p:cNvPicPr/>
          <p:nvPr/>
        </p:nvPicPr>
        <p:blipFill>
          <a:blip r:embed="rId3"/>
          <a:stretch/>
        </p:blipFill>
        <p:spPr>
          <a:xfrm>
            <a:off x="2895480" y="4154400"/>
            <a:ext cx="86220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isenberg and Berkowitz, The Big6 Information Problem-Solving Pro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nnison, JaDene, LMS. Butterfly Less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eser, Emmy. ODU Graduate LMS Stud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iles, P, LMS. Trash and Treasure PowerPoint Lesson. Based on the work of Barbara Jansen, L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ol, Mary Wool, GRT, Crocodile and Osprey Les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.big6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7344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an Ko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j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koch@vbschool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y Lie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ejdlieser@att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Finally I review my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d make sure it’s my best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Words by D. Cazares, S. Hensley, and K. Jordan: Students at the Univ. of Texas Graduate School of Library and Information Science, Austin, TX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so02015_"/>
          <p:cNvPicPr/>
          <p:nvPr/>
        </p:nvPicPr>
        <p:blipFill>
          <a:blip r:embed="rId1"/>
          <a:stretch/>
        </p:blipFill>
        <p:spPr>
          <a:xfrm>
            <a:off x="7543800" y="300816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bd04907_"/>
          <p:cNvPicPr/>
          <p:nvPr/>
        </p:nvPicPr>
        <p:blipFill>
          <a:blip r:embed="rId2"/>
          <a:stretch/>
        </p:blipFill>
        <p:spPr>
          <a:xfrm>
            <a:off x="5715000" y="22860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BD00028_"/>
          <p:cNvPicPr/>
          <p:nvPr/>
        </p:nvPicPr>
        <p:blipFill>
          <a:blip r:embed="rId3"/>
          <a:stretch/>
        </p:blipFill>
        <p:spPr>
          <a:xfrm>
            <a:off x="4572000" y="1600200"/>
            <a:ext cx="86184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Teaching K-2 Students Super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ome idea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Super3</a:t>
            </a:r>
            <a:br>
              <a:rPr sz="4400"/>
            </a:b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Big6 for K-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L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do I need to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do I need to find out?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TD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can I use to find what I need?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ISS)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5" descr="BD00028_"/>
          <p:cNvPicPr/>
          <p:nvPr/>
        </p:nvPicPr>
        <p:blipFill>
          <a:blip r:embed="rId1"/>
          <a:stretch/>
        </p:blipFill>
        <p:spPr>
          <a:xfrm>
            <a:off x="4191120" y="1905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LA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“Wh” Ques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– Object or 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o – Per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re –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–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y – Rea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--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3:18:02Z</dcterms:created>
  <dc:creator>Pete Koch</dc:creator>
  <dc:description/>
  <dc:language>en-US</dc:language>
  <cp:lastModifiedBy>User</cp:lastModifiedBy>
  <dcterms:modified xsi:type="dcterms:W3CDTF">2011-03-04T21:12:03Z</dcterms:modified>
  <cp:revision>271</cp:revision>
  <dc:subject/>
  <dc:title>Super3 </dc:title>
</cp:coreProperties>
</file>